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3F09-29AB-465C-B7F9-030F4968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647-BDA0-430A-8E1B-AA51E627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640837-2166-4008-BD74-914DF00F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91BEB-0528-44E4-AC3B-4C52426D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8EF10-ED63-49B7-BF99-4BC1E285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C61C76-2194-41BD-9179-0B0788C0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D1115-35AF-4477-9B96-A5D26517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3CEFD-5F90-4289-89CA-330FC98F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6187A-650A-48E7-B16A-5E335520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7169E-7798-4395-925E-AE398636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2764E-5016-4707-AE1E-5C3BFF16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DE495-7313-4307-9D92-8AA8F87C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7F2C-3B3D-4DDA-99EC-FCEA04E1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BFA0D-59E7-42C2-ACD2-61FE56EC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B4462B-E472-41F4-BA8D-F008D4C9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7FD65-80DA-47BB-846D-F8B9ACDF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EB238-590C-4C91-BE93-82053EC9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D98CB-A607-4A9B-8E5E-26C6230F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7B977B-A530-4196-A59C-8B7352D5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05002-6C90-4ABC-87C3-6F19BED3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826EFF-DF63-43F3-B131-4CAFC908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9999C-7E54-43D7-9801-0DAB2697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FB517-C707-4E48-9827-FC127468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B56B-45F5-47F0-AC50-BDFC842F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BC5BF8-4C9F-46B7-B1B5-395E6FF0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9F147-0B30-458F-941E-5DAEACC8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D3A0B-BD40-426D-9091-3610A42C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6353D-607E-4D16-BACB-6327DE1C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46713-D8F1-45A6-998C-D86DD6EA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5CC1E-16CA-4353-B4D2-0CDAF746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B3817-428D-4355-8736-9C1E1D18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EF037-09D8-41EE-96DC-D92D3F48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3454E-1240-4903-8BA6-35D318D6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D0C88-12E2-4EF7-95B1-E3E00552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BE3B-FEA2-43B5-9789-F9B2E850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20D63-77C6-4E48-9F7C-042990C0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02120-4DAC-4A66-80C1-9AD412A9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3212C-866B-4364-8B52-1CCCA25B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3A63CC-8399-4706-9317-A8103169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D97D2-3D5E-4310-91BD-40AFE8A9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3715C-904F-40E7-A848-1CDE8816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7BD955-5BE4-42A0-9DB3-B0F4045D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2CCB6-EE82-4793-9894-D40D22DA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DFFC24-7C5A-4772-AA99-763B9F1B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6305D-D829-4B3E-BD3F-1CF3FD82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C4C8-90B0-427A-8D94-AB3C6ED8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70DC7B-D64C-4319-BB37-BAEBE183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0A6596-05E4-40CF-BBA3-B495109D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3CD2E-B93E-4444-A02F-38C1E220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7D1184-1479-4A5F-AA25-3B31812E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6E60B-FE96-4781-BFC3-8517C5EB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0F8C-C115-468E-85FB-F6041F0A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4AFC-467D-43FD-943C-9F076FCE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6BA2-A766-4FA0-94F3-FB0123FB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6153-38C8-4916-8F58-D1C2A135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AED9-EF69-44F2-97B9-229204AA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0A0-C72C-4872-ACB4-65704781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96F9-C0A3-4E5B-AA53-54C88EE9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F5C8-4947-4D1B-80F5-9539A364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29AC-0415-482A-BD71-D689963E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F891-F562-4283-887C-9F773751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63F3-4637-4B12-BB4B-41E520FF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2ECF6-FC41-489A-8E56-36E07020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0F43F-D7A5-43CB-8F10-BCE86DAC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56C57-A77E-4F72-9C58-C0583C79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F2D9D-C820-40FD-A215-B4C70E3B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EC24C-A101-4A7E-B563-23CEDE4E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E22-7402-4E29-A965-4EED4AB6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D5F0F-D6C2-4122-B16E-1851364D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B2E4-14FD-4A70-9077-0D9FD261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C9294-B206-47FE-A0B8-E7A00035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1680C-938A-4C7E-B560-04D67E7B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0C817-CBC0-467F-B3AE-C127C77B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812CE-CBF6-4E54-8566-71F07D28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B65FD-3154-436D-B15B-06F7A734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6084A-0AA6-4C39-A937-639F6DD7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F0CE4-6453-448E-A475-F8C59156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23AC0-A00A-4260-A775-CD52B6B5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6C1-32F3-433E-BD30-60FF128F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ACE35-C553-4AF4-B1CA-FFFD9AD9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B94C9-65DE-4B36-872C-3F669EB0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B0BD9-2C9B-4B6A-9E15-EA8B53FA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22B2B-AC4A-44DE-B479-581CDD4D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19E3E-8989-4731-A51B-EFD9BA3F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51BBF-4B25-46F6-AD0F-CD343D06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22C62-888F-4D63-806C-10E2D551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004E1-71F0-4CCE-8BEB-B4A413D4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3A8BD-D623-4B5C-ADB8-ED378634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3502A-23D9-4AFA-B8A3-698E0F70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1BE0-D7DC-48F3-A00B-B83DB432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68244-62A2-4AE4-AE66-B3359F4D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8BB71-2135-4FA1-9A24-94905895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CEB54-2703-409A-8CAB-0B71DCE2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19D42-28C7-4447-84EA-4C9C8146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C26F5-EF85-4413-9078-47943CEE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BDAF2-0261-4392-9CD4-90DE24C6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9097C-297E-4E2B-94C4-06BAAAF4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07937-14C8-49FA-B5AE-551932D6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90E66-94A9-4B5F-8C5B-49E88567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EBFC9-87F9-485C-B9DC-75C5E2B1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CDE-5EFE-44F6-B296-EDAC61E2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7CA25-D598-4068-91F2-CED782C5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DEFD8-6D98-4BD1-82F3-9DBB3BD0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69675-A6E1-4B3F-A2C4-DBFC518F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5EAA7-8891-453E-AA71-96E0E4E8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D8BF7-5536-44C8-8D9C-547E6DEF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DFF15-DDF1-40CD-B81A-1A012D5E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4C5E2-78D8-4B92-8326-BF03F70B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E3778-3324-45E8-A609-B7E5EA22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EE868-FC32-4B19-9F44-6E20EB15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21AA0-B330-46D9-BC58-A52C4DE4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7F6E-F476-41E3-A02F-307441B7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6FC8B-E8E3-474D-B359-60ABA29E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A4721-D63C-4132-BD5C-D395B5EF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5C73B-9086-4166-BABF-866573A0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8DBCA-4215-4BF1-9B98-2A0143D3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D5952-B8EA-4DFC-A8F1-703642AF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A73E8-EE57-41FC-B033-5E5B9FEF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29EA6-9BB1-4507-8476-7BB7128E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136E1-4785-4BD5-A9E2-AC39D202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CAAA2-4DE8-46D1-9151-EFE433C4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08B26-EFCC-41F0-B766-73FDA906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B1BD-A582-4CF8-968C-DE8D9AB4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0ABCC-44E2-48C3-893B-3E9056D9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6E509-B203-4DF8-9BCC-6D963FE6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27100-4A35-4B5F-A5F2-3B56F3F4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EAB5A-9C65-447C-A617-13895EE0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41036-9C37-4410-9DF9-28BD384C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2BF62-341C-47EC-8E0E-4D3C277C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C6668-CD8A-4E96-81AE-DAF905DF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B841A-ACEA-4C18-9B6C-DC67B0EF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1837A-BED5-437B-A88E-75E39843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E05C7-A5F5-4F9D-8E54-F41360E6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093-9A6A-4101-B2AF-4180EC88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14A4D-22EB-45FC-9077-5110D65E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A1418-EE0A-48E7-8004-112619CC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254A9-ED39-46CB-A577-C795CE51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0DF81-C831-41B0-9317-822B4224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70349-1E8A-47EC-91CE-AC0D3DC1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9E115-2223-4EC0-91A0-F4AD3CE4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FDBB0-8B88-441F-A886-3D6858CD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E80F5-7042-4C51-B6C8-E0C6EF20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0F550-8E9E-453E-B38E-DF9D3618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F8F616-0035-4948-8965-7569B180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52E39-446C-4FFA-8F30-84F4CCA5C80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F3E12-BF3A-41FB-8174-68A3F12986F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C4E75-0B64-48DD-A625-78EDE87ED78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0A440-F137-43F2-B78F-D965EB00E2F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965750-D113-47FC-BF52-F2BBA31D4BB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FEB1F-687D-4DB8-8F0D-05614FB291A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79533-C78F-49A8-9DF1-BE2ADB71E83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9A686-99A4-411C-9BF7-33552FEAFA4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95205-2105-4038-A31C-1D1784D0649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756A0-FE5C-470A-93A7-E46CC37B6D6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0FF44-FD21-4E22-8FC5-99D230588BF4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5A7B4-ACCD-4B38-BB34-E51D2DBE62E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QUESTIONS ABOUT TIME WITH PRESENT TENSE MADE FOR ELS BY KATY SALGADO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O THE TUNE OF CAMP TOWN RAC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LEVEL I NEE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How Long?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7160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 did it take to bake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37160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It took 40 minute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5" descr=""/>
          <p:cNvPicPr/>
          <p:nvPr/>
        </p:nvPicPr>
        <p:blipFill>
          <a:blip r:embed="rId1"/>
          <a:stretch/>
        </p:blipFill>
        <p:spPr>
          <a:xfrm>
            <a:off x="5751360" y="3359160"/>
            <a:ext cx="2019600" cy="26668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"/>
          <p:cNvPicPr/>
          <p:nvPr/>
        </p:nvPicPr>
        <p:blipFill>
          <a:blip r:embed="rId2"/>
          <a:stretch/>
        </p:blipFill>
        <p:spPr>
          <a:xfrm>
            <a:off x="5372280" y="3359160"/>
            <a:ext cx="31114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7160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 did it take to finish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37160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It took me 2 hour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4" descr=""/>
          <p:cNvPicPr/>
          <p:nvPr/>
        </p:nvPicPr>
        <p:blipFill>
          <a:blip r:embed="rId1"/>
          <a:stretch/>
        </p:blipFill>
        <p:spPr>
          <a:xfrm>
            <a:off x="3525840" y="358452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37160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 did it take you to climb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37160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It took me an hour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5" descr=""/>
          <p:cNvPicPr/>
          <p:nvPr/>
        </p:nvPicPr>
        <p:blipFill>
          <a:blip r:embed="rId1"/>
          <a:stretch/>
        </p:blipFill>
        <p:spPr>
          <a:xfrm>
            <a:off x="4179960" y="3643200"/>
            <a:ext cx="34923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37160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 did it take you to write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37160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It took me a month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4" descr=""/>
          <p:cNvPicPr/>
          <p:nvPr/>
        </p:nvPicPr>
        <p:blipFill>
          <a:blip r:embed="rId1"/>
          <a:stretch/>
        </p:blipFill>
        <p:spPr>
          <a:xfrm>
            <a:off x="4889520" y="3886200"/>
            <a:ext cx="25401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7160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 did it take you to do your homework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37160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It took me 45 minute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4" descr=""/>
          <p:cNvPicPr/>
          <p:nvPr/>
        </p:nvPicPr>
        <p:blipFill>
          <a:blip r:embed="rId1"/>
          <a:stretch/>
        </p:blipFill>
        <p:spPr>
          <a:xfrm>
            <a:off x="4889520" y="3886200"/>
            <a:ext cx="25401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7160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 did it take to ________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7160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It took me _________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70000" y="338040"/>
            <a:ext cx="8658000" cy="354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 have you _______________……….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past participle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been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known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ad 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Long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70000" y="3884400"/>
            <a:ext cx="88740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I’ve been since _________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Georgia"/>
              </a:rPr>
              <a:t>time/year/grade level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9:44:29Z</dcterms:created>
  <dc:creator>City School</dc:creator>
  <dc:description/>
  <dc:language>en-US</dc:language>
  <cp:lastModifiedBy>122790</cp:lastModifiedBy>
  <dcterms:modified xsi:type="dcterms:W3CDTF">2011-07-07T21:18:58Z</dcterms:modified>
  <cp:revision>12</cp:revision>
  <dc:subject/>
  <dc:title>How Long?</dc:title>
</cp:coreProperties>
</file>